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F9C-F819-40A6-9F92-725A698B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3BC7-BEF6-4DB7-864B-98102686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436-2822-4AC2-AECF-BE27F4A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C13-E9A0-4CE3-8124-F9177776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DFA-D144-45C1-8A5B-26EF0440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B2C-17F9-4450-9CA3-A21811B6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794-E5E4-4C40-B9DD-946CA15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11F-0152-470D-8C79-2EFD710A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C46-8546-4107-814C-3411FE8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0ED-CB9B-4CC6-AE95-C49B428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669-FDD7-421C-A5C3-34CED444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29-05CC-4EAE-9B48-BDE8EBBC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072-535A-42D7-8DDD-9DF311C8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4C2-DB72-4277-940D-4AFDCDA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027B-8FDF-4DBB-9FBB-B001873D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334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334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886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ahs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racias, yo soy aburrida 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295280" y="4724280"/>
            <a:ext cx="746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32Z</dcterms:modified>
  <cp:revision>108</cp:revision>
  <dc:subject/>
  <dc:title>Profile</dc:title>
</cp:coreProperties>
</file>